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471-E44D-4A7D-B191-44E6630B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5EE-B300-43A7-917F-B65CF106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143-D961-49C6-97A3-300AD2DE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5EF-03E0-4A58-A9FB-EF01BFE2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7625-B8C4-4BCA-8C0B-A5DAB7B9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CD4-C7B7-409B-87DF-25C66FC7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8B8-F6DF-494C-9488-89222A6B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654-A42F-4E89-95CB-EFEA4CF6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32FF-C58D-4B8A-8220-ABCB90C0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40E5-0325-4326-9845-15127545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C9C-9866-438A-836F-3C8C9404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C50-924A-4856-944B-233D5C7D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098F-2600-4EDE-9F3B-9E6376CD9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Connie Campbell</cp:lastModifiedBy>
  <dcterms:modified xsi:type="dcterms:W3CDTF">2002-05-31T22:09:32Z</dcterms:modified>
  <cp:revision>16</cp:revision>
  <dc:subject/>
  <dc:title>No Slide Title</dc:title>
</cp:coreProperties>
</file>